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7D7E77-3EB6-4AB5-962D-374A8BB34E3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3080" y="396720"/>
            <a:ext cx="6170400" cy="16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3080" y="2311560"/>
            <a:ext cx="6170400" cy="31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3080" y="5725440"/>
            <a:ext cx="6170400" cy="31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F586BC-54C4-44D8-A993-E4EDF958F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3080" y="396720"/>
            <a:ext cx="6170400" cy="16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3080" y="2311560"/>
            <a:ext cx="3011040" cy="31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4960" y="2311560"/>
            <a:ext cx="3011040" cy="31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3080" y="5725440"/>
            <a:ext cx="3011040" cy="31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4960" y="5725440"/>
            <a:ext cx="3011040" cy="31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D91738-6F5F-4DEE-AB37-8DA282231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3080" y="396720"/>
            <a:ext cx="6170400" cy="16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3080" y="2311560"/>
            <a:ext cx="1986480" cy="31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280" y="2311560"/>
            <a:ext cx="1986480" cy="31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5480" y="2311560"/>
            <a:ext cx="1986480" cy="31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3080" y="5725440"/>
            <a:ext cx="1986480" cy="31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280" y="5725440"/>
            <a:ext cx="1986480" cy="31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5480" y="5725440"/>
            <a:ext cx="1986480" cy="31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71EC08-E70B-4BC7-A111-DB80D70B470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3080" y="396720"/>
            <a:ext cx="6170400" cy="16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3080" y="2311560"/>
            <a:ext cx="6170400" cy="65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1B6066-AC4B-4DC7-B084-E14ADC262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3080" y="396720"/>
            <a:ext cx="6170400" cy="16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3080" y="2311560"/>
            <a:ext cx="6170400" cy="65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B687C9-4315-4BA5-8B10-EB1C619E4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3080" y="396720"/>
            <a:ext cx="6170400" cy="16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3080" y="2311560"/>
            <a:ext cx="3011040" cy="65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4960" y="2311560"/>
            <a:ext cx="3011040" cy="65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27C172-1A3C-47A1-B39D-F9AB97E79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3080" y="396720"/>
            <a:ext cx="6170400" cy="16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A41B73-8866-4061-8DBA-71C60BDAA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3080" y="396720"/>
            <a:ext cx="6170400" cy="76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7F25F8-A68D-4C16-8D83-44D0319B9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3080" y="396720"/>
            <a:ext cx="6170400" cy="16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3080" y="2311560"/>
            <a:ext cx="3011040" cy="31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4960" y="2311560"/>
            <a:ext cx="3011040" cy="65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3080" y="5725440"/>
            <a:ext cx="3011040" cy="31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729634-A95F-4CC6-99F4-34709A7A7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3080" y="396720"/>
            <a:ext cx="6170400" cy="16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3080" y="2311560"/>
            <a:ext cx="3011040" cy="65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4960" y="2311560"/>
            <a:ext cx="3011040" cy="31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4960" y="5725440"/>
            <a:ext cx="3011040" cy="31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ED8DC1-3A9F-4A26-AEE1-BA0C6FC00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3080" y="396720"/>
            <a:ext cx="6170400" cy="16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3080" y="2311560"/>
            <a:ext cx="3011040" cy="31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4960" y="2311560"/>
            <a:ext cx="3011040" cy="31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3080" y="5725440"/>
            <a:ext cx="6170400" cy="31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B30A2E-209E-472F-BAC0-77FE86978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3080" y="396720"/>
            <a:ext cx="6170400" cy="16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3080" y="2311560"/>
            <a:ext cx="6170400" cy="65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3080" y="9181800"/>
            <a:ext cx="1598400" cy="52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2343240" y="9182160"/>
            <a:ext cx="217152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4915080" y="9181800"/>
            <a:ext cx="1598400" cy="52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4BF8921-C564-4C28-9712-4BFCBB2C32FB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666720"/>
            <a:ext cx="6858000" cy="178596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  <a:ea typeface="Microsoft YaHei"/>
              </a:rPr>
              <a:t>О будущей пенсии 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Calibri"/>
                <a:ea typeface="Microsoft YaHei"/>
              </a:rPr>
              <a:t>граждане узнают 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Calibri"/>
                <a:ea typeface="Microsoft YaHei"/>
              </a:rPr>
              <a:t>заране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42920" y="0"/>
            <a:ext cx="642960" cy="6332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928800" y="166680"/>
            <a:ext cx="5929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Calibri"/>
              </a:rPr>
              <a:t>Работаем для всех, заботимся о каждом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3381480"/>
            <a:ext cx="157176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КОГО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500120" y="3381480"/>
            <a:ext cx="5357880" cy="78588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cc"/>
                </a:solidFill>
                <a:latin typeface="Calibri"/>
              </a:rPr>
              <a:t>Мужчин с 45 лет и женщин с 40 лет не являющихся получателями страховой пенсии по старости,   в том числе назначенной досрочн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500120" y="5238720"/>
            <a:ext cx="5357880" cy="64836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cc"/>
                </a:solidFill>
                <a:latin typeface="Calibri"/>
              </a:rPr>
              <a:t>Вся информация будет предоставлена гражданину в личном кабинете на портале Госуслу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5881680"/>
            <a:ext cx="6858000" cy="325764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alibri"/>
                <a:ea typeface="Calibri"/>
              </a:rPr>
              <a:t>СОСТАВ СВЕДЕНИЙ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AutoNum type="arabicParenR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alibri"/>
                <a:ea typeface="Calibri"/>
              </a:rPr>
              <a:t>фамилия, имя, отчество 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AutoNum type="arabicParenR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alibri"/>
                <a:ea typeface="Calibri"/>
              </a:rPr>
              <a:t>дата рождени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AutoNum type="arabicParenR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alibri"/>
                <a:ea typeface="Calibri"/>
              </a:rPr>
              <a:t>страховой номер индивидуального лицевого счета (СНИЛС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AutoNum type="arabicParenR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alibri"/>
                <a:ea typeface="Calibri"/>
              </a:rPr>
              <a:t>сведения об общей продолжительности периодов трудовой и (или) иной деятельности, включаемых в страховой стаж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AutoNum type="arabicParenR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alibri"/>
                <a:ea typeface="Calibri"/>
              </a:rPr>
              <a:t>сведения о величине индивидуального пенсионного коэффициент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AutoNum type="arabicParenR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информация об условиях приобретения права на страховую пенсию по старости  (сколько еще стажа необходимо приобрести до выхода на пенсию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AutoNum type="arabicParenR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сведения о стоимости индивидуального пенсионного коэффициент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AutoNum type="arabicParenR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сумма пенсионных накоплени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AutoNum type="arabicParenR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сведения о предполагаемом размере страховой пенс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4238640"/>
            <a:ext cx="157176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КОГД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500120" y="4238640"/>
            <a:ext cx="5357880" cy="92880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14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cc"/>
                </a:solidFill>
                <a:latin typeface="Calibri"/>
              </a:rPr>
              <a:t>Один раз в три года, начиная с года достижения застрахованным лицом возраста 45 и 40 лет (соответственно мужчины и женщины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5167440"/>
            <a:ext cx="157176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КАК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9136080"/>
            <a:ext cx="6000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c00000"/>
                </a:solidFill>
                <a:latin typeface="Calibri"/>
                <a:ea typeface="Calibri"/>
              </a:rPr>
              <a:t>Каждому необходимо зарегистрироваться на Едином портале Госуслуг!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2452680"/>
            <a:ext cx="68580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14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cc"/>
                </a:solidFill>
                <a:latin typeface="Calibri"/>
              </a:rPr>
              <a:t>С 2022 года ПФР начнет проактивно информировать граждан о предполагаемом размере страховой пенсии по старости, а также о пенсионных накопления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4303800" y="658800"/>
            <a:ext cx="2577960" cy="34750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6000840" y="9239400"/>
            <a:ext cx="652320" cy="66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666720"/>
            <a:ext cx="6858000" cy="250020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  <a:ea typeface="Microsoft YaHei"/>
              </a:rPr>
              <a:t>Подготовься к 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Calibri"/>
                <a:ea typeface="Microsoft YaHei"/>
              </a:rPr>
              <a:t>пенсии заранее!</a:t>
            </a:r>
            <a:br>
              <a:rPr sz="4000"/>
            </a:br>
            <a:r>
              <a:rPr b="1" lang="ru-RU" sz="2800" spc="-1" strike="noStrike">
                <a:solidFill>
                  <a:srgbClr val="ffffff"/>
                </a:solidFill>
                <a:latin typeface="Calibri"/>
                <a:ea typeface="Microsoft YaHei"/>
              </a:rPr>
              <a:t>Корректировка 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Calibri"/>
                <a:ea typeface="Microsoft YaHei"/>
              </a:rPr>
              <a:t>индивидуального 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Calibri"/>
                <a:ea typeface="Microsoft YaHei"/>
              </a:rPr>
              <a:t>лицевого сче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42920" y="0"/>
            <a:ext cx="642960" cy="6332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928800" y="166680"/>
            <a:ext cx="5929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Calibri"/>
              </a:rPr>
              <a:t>Работаем для всех, заботимся о каждом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0" y="3238560"/>
            <a:ext cx="6858000" cy="5713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Calibri"/>
              </a:rPr>
              <a:t>На индивидуальном лицевом счете (ИЛС) формируется вся информация, поступившая от работодателей с 2002 го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7024680"/>
            <a:ext cx="6858000" cy="134388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Calibri"/>
              </a:rPr>
              <a:t>ПФР проведет дополнительную проверку сведений, содержащихся в документах. Направив запросы работодателям, в архив, компетентные органы государств – участников международных договор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3952800"/>
            <a:ext cx="4572000" cy="300060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4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ЕСЛИ ВЫ ОБНАРУЖИЛИ НЕТОЧНОС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4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В ВЫПИСКЕ ИЛС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4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Подайте заявление о корректировке сведений ИЛС на портале Госуслуг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4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При необходимости предоставьте документы, подтверждающие стаж в период, который требует корректиров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500120" y="8381880"/>
            <a:ext cx="5357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  <a:ea typeface="Calibri"/>
              </a:rPr>
              <a:t>Получи выписк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  <a:ea typeface="Calibri"/>
              </a:rPr>
              <a:t>из индивидуального лицевого счёта на портале  Госуслуг или сайте ПФР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  <a:ea typeface="Calibri"/>
              </a:rPr>
              <a:t>и ПРОВЕРЬ её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rcRect l="21030" t="35590" r="15003" b="0"/>
          <a:stretch/>
        </p:blipFill>
        <p:spPr>
          <a:xfrm>
            <a:off x="4429080" y="666720"/>
            <a:ext cx="2428920" cy="2500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rcRect l="55800" t="36061" r="5239" b="17468"/>
          <a:stretch/>
        </p:blipFill>
        <p:spPr>
          <a:xfrm>
            <a:off x="4543560" y="3952800"/>
            <a:ext cx="2314440" cy="30006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rcRect l="45380" t="50162" r="11811" b="6409"/>
          <a:stretch/>
        </p:blipFill>
        <p:spPr>
          <a:xfrm>
            <a:off x="0" y="8381880"/>
            <a:ext cx="1500120" cy="15242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2928960" y="1738440"/>
            <a:ext cx="1423800" cy="14554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5-05T03:39:09Z</dcterms:created>
  <dc:creator>034BondarevaNA1</dc:creator>
  <dc:description/>
  <dc:language>en-US</dc:language>
  <cp:lastModifiedBy>034-1152</cp:lastModifiedBy>
  <cp:lastPrinted>2021-11-01T03:52:37Z</cp:lastPrinted>
  <dcterms:modified xsi:type="dcterms:W3CDTF">2021-10-13T01:47:53Z</dcterms:modified>
  <cp:revision>11</cp:revision>
  <dc:subject/>
  <dc:title>Слайд 1</dc:title>
</cp:coreProperties>
</file>