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40538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3DC-3531-417C-93AF-E4F844C4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42-BD2D-417E-8AC2-90559F9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351-D5FB-4FC7-9393-BDCA3AE8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3B5-3FAC-4986-BB67-FBEDD7F2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A3A-A2AF-4B82-92E5-BFBD139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308-9768-4DD5-B414-3E2F2CE1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86A-1A50-4139-B8C5-89F2EBA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F38-B93A-467E-B51F-6908BBC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E70-A080-40D6-8450-09B1541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D2E-9099-4F7B-A7E1-5A115FA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0AD-E2F2-4059-A113-2756766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02E-B3D0-41CB-A057-3EEB212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b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C07-504A-4604-9522-F367D5B1C37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174B-831E-4451-9067-BF0D3A666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796000" y="977760"/>
            <a:ext cx="30988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Группа 715"/>
          <p:cNvGrpSpPr/>
          <p:nvPr/>
        </p:nvGrpSpPr>
        <p:grpSpPr>
          <a:xfrm>
            <a:off x="0" y="0"/>
            <a:ext cx="9144000" cy="990720"/>
            <a:chOff x="0" y="0"/>
            <a:chExt cx="9144000" cy="990720"/>
          </a:xfrm>
        </p:grpSpPr>
        <p:grpSp>
          <p:nvGrpSpPr>
            <p:cNvPr id="43" name="Прямоугольник 13"/>
            <p:cNvGrpSpPr/>
            <p:nvPr/>
          </p:nvGrpSpPr>
          <p:grpSpPr>
            <a:xfrm>
              <a:off x="5760" y="0"/>
              <a:ext cx="9138240" cy="353880"/>
              <a:chOff x="5760" y="0"/>
              <a:chExt cx="9138240" cy="353880"/>
            </a:xfrm>
          </p:grpSpPr>
          <p:pic>
            <p:nvPicPr>
              <p:cNvPr id="44" name="Прямоугольник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760" y="0"/>
                <a:ext cx="913824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19440" y="17640"/>
                <a:ext cx="9112680" cy="31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Прямоугольник 14"/>
            <p:cNvGrpSpPr/>
            <p:nvPr/>
          </p:nvGrpSpPr>
          <p:grpSpPr>
            <a:xfrm>
              <a:off x="5760" y="324360"/>
              <a:ext cx="9138240" cy="347760"/>
              <a:chOff x="5760" y="324360"/>
              <a:chExt cx="9138240" cy="347760"/>
            </a:xfrm>
          </p:grpSpPr>
          <p:pic>
            <p:nvPicPr>
              <p:cNvPr id="47" name="Прямоугольник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60" y="324360"/>
                <a:ext cx="9138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19440" y="336960"/>
                <a:ext cx="911268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Прямоугольник 15"/>
            <p:cNvGrpSpPr/>
            <p:nvPr/>
          </p:nvGrpSpPr>
          <p:grpSpPr>
            <a:xfrm>
              <a:off x="0" y="642960"/>
              <a:ext cx="9144000" cy="347760"/>
              <a:chOff x="0" y="642960"/>
              <a:chExt cx="9144000" cy="347760"/>
            </a:xfrm>
          </p:grpSpPr>
          <p:pic>
            <p:nvPicPr>
              <p:cNvPr id="50" name="Прямоугольник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42960"/>
                <a:ext cx="914400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8000" y="656640"/>
                <a:ext cx="911232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" name="Рисунок 2" descr=""/>
          <p:cNvPicPr/>
          <p:nvPr/>
        </p:nvPicPr>
        <p:blipFill>
          <a:blip r:embed="rId4"/>
          <a:stretch/>
        </p:blipFill>
        <p:spPr>
          <a:xfrm>
            <a:off x="58680" y="0"/>
            <a:ext cx="762120" cy="1017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0"/>
          <p:cNvSpPr/>
          <p:nvPr/>
        </p:nvSpPr>
        <p:spPr>
          <a:xfrm>
            <a:off x="857160" y="276120"/>
            <a:ext cx="82868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920" bIns="43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ВЕТСТВЕННОСТЬ  ЗА  НАРУШЕНИЕ УСТАНОВЛ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ОРЯДКА  ВЫЖИГАНИЯ СУХОЙ ТРАВЯНИСТОЙ РАСТ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ъект 2"/>
          <p:cNvSpPr/>
          <p:nvPr/>
        </p:nvSpPr>
        <p:spPr>
          <a:xfrm>
            <a:off x="285840" y="1008000"/>
            <a:ext cx="8712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министративная ответственность за нарушение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требований пожар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татья 8.32 КоАП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граждан – штраф в размере до 5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должностных лиц – штраф в размере до 50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юридических лиц – штраф в размере до 1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татья 20.4 КоАП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граждан – штраф в размере до 4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должностных лиц – штраф в размере до 30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ля юридических лиц – штраф в размере до 500 тысяч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8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головная ответственность за нарушение требований 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жар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татья 168 УК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штраф в размере до ста двадцати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ишение свободы на срок до 1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татья 219 УК РФ (часть 1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штраф в размере до восьмидесяти тысяч руб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ишение свободы на срок до трех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ишение права занимать определенные должности или заниматься определенной деятель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 срок  до тре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татья 261 УК РФ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Часть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штраф в размере до четырехсот тысяч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ишение свободы на срок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Часть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штраф в размере до пятисот тыся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ишение свободы на срок до 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nstantin</dc:creator>
  <dc:description/>
  <dc:language>en-US</dc:language>
  <cp:lastModifiedBy>Куделин А.А.-ДНД</cp:lastModifiedBy>
  <cp:lastPrinted>2016-04-12T15:28:39Z</cp:lastPrinted>
  <dcterms:modified xsi:type="dcterms:W3CDTF">2016-04-14T09:59:46Z</dcterms:modified>
  <cp:revision>10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